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7B8-0725-464A-8495-17CBBB8C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1E6-34FA-4A2E-9A0E-0945077C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146-5E09-4303-A2C2-B2B5754B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AFA-96A9-4C7D-9858-25EFDE9E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280C-79CE-4C1E-B355-4EBA999E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BC28-4CBC-45C6-984D-528C4814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F1D1-81E1-49A4-AD32-3D71C52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D53D-59DC-43A7-9F40-354D41BC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22C2-433E-4E38-8DC2-F10F8AE7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AF92-CCF9-41AD-9F5E-77B59DF5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53A0-78FF-4989-86BF-E62BBD64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254-D11B-4163-8B81-4BA3BAAF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B651-48B7-454F-A0C6-7CFB7F18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74D6-C445-407B-B547-39C3E032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8355-4BED-488F-B83A-949A475B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BF5C-8E7B-49C9-8439-CFF16F2E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7399-CAE9-4664-A8F3-58B74E94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8E81-CED0-4E92-8725-8D30483F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6CC7-C136-4BF3-940B-BB6B0DEA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FA0B-0E7C-406B-9EB8-5C596805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5439-330D-4424-8AE0-6615DBAE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4083-E71C-453D-AE28-C120FD9A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A7F-07A9-449C-AC1F-1842120B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0129-A41A-4717-B2D9-582B96EF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00A8-4900-41CD-9B4A-E09D5DB7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B3D0-0E10-4F3B-9688-F131C3C2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2299-4DB2-4B71-B084-3CAFB8D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DBED-1160-4E6C-A77F-6F3F5324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197A-3A3E-4A0D-A905-4628B760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FA08E-FEE4-42B8-89A7-FC8319AB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9C41-4B08-4483-81DE-A6BBEAE7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47C1-4680-4BD3-B6C9-4C9D361E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F997-A400-4574-824E-518AF28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263-63AE-497A-9678-F1968673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442F-2DEF-491F-90D9-C200E08A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E5BE9-0DF1-4644-972F-72F9C781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FE01-D1AC-44B7-A9BE-B4D9E857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C5A0-EF0F-4580-A533-EF35A807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CE9D-EB6E-46B1-BD73-196A5379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FCE44-89E4-4356-9938-050E9091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539A9-B2B4-4B45-B7C7-90B973F8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C93E-706E-4A30-82C3-6AA63548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F3C14-1900-4E01-B39C-4951478E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2A63E-F500-47F9-99FC-1AADC96C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374-95E0-452C-90FA-22ADC7E5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1BB29-63EA-4C61-910A-6F659E1B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11278-AC5B-418B-8CBB-26D60E5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DD5E-8EBE-4F60-815C-80D3E869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F37A1-5CF0-48CA-9696-AAE21C1A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38F5D-3685-416F-B18F-2EE655F9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D48EC-15CD-455A-ABE6-891766B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77CE-0DF2-4C17-A93A-8F6FCC34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232D8-8CCE-4207-9BA8-63A7B6D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147F3-83BD-46EA-BFC7-A8FD5D79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9FCCA-7F2C-483F-9CCF-9D79D61B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7C5-2A98-4BAD-8ED4-3C3EB8B4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99FDB-5408-4B5E-8EC1-FB6A99E6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0F8A9-E232-4AC1-BB45-59B04B63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76B30-0EC9-4BF4-B24C-8E4CB888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B024-5D36-4599-A1F7-95892985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8024-2304-44F1-8A86-2AF112CB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C8462-5FBB-4A0A-A80F-6F63FDC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34DC1-E957-49BD-897C-09391BDB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707A6-557A-428C-95EE-97DFF44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BA179-D359-4FDB-ADD6-99A807B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76833-BA31-4C51-ABF0-86220674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FA3-9FC8-4750-BF3F-11C65AD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0F17C-E281-48DD-9FCD-0AA9848E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199C8-9524-4363-B751-7004E8BF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75AE9-10E7-438B-AD74-0E074034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3DE8D-FACA-4136-8187-1B8A5DA2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6ECCE-9A36-4E30-9D8F-BE6A591C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3BB5-6D5A-4B6F-81C5-B3BBB75B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ABEB5-ACD3-487F-911D-B777A427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1BBBB-AD4A-4CB2-9B4E-130694F9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0ABDB-9B79-4B79-BCE5-15BB2B5C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111E7-AF60-42AB-B544-C0FAD31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66A-6C4D-456A-88A7-F708820F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45739-62E5-4375-BFC7-A47EEA91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3899C-F9CC-4628-BD2D-C545C410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50F64-5F54-4097-9B94-A706AF14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3C40E-AD42-424D-9D4E-DED07FCE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934F4-FBF3-49DC-8272-51F03E68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78B2D-700D-4A8F-90AA-D27B11E9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54489-3E77-429D-A282-EDD5A44E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FF040-84EB-423D-8A33-3241A0F0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C6895-B55A-435E-B692-1DF048AC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38568-C2F1-4FCD-A1EB-E7760E3F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E56-A3F1-42B6-8DC6-B19EFC1A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E04D9-F249-4010-9310-9E25AA4B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F7300-965B-41BD-AED3-C59EE457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329BE-5ED6-4858-B18E-889651CA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D17AB-17BD-457C-BE03-DAB4126D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86787-FFFC-4D00-89DB-A9AF3A93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F6357-5676-45CD-9624-D99C3E57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FFE6D-A12C-474D-B8A5-76E6F713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09DA-BD8E-4B63-9F5D-92452F98ADC2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00A2-FBEE-4B04-94C9-D7357F054613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B3E8-F297-47DB-A276-7BF62F1016FA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1A88-1110-4FB4-BE60-EE7ECA0A78FB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8BA8-7031-418A-8A1A-B4593CBD283E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F12D-A2EE-4355-B756-76F36F9BCDC7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568C-DB98-4F37-ABF0-9E2437517C32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4641-5747-4CC6-8A0E-840EFAD4EA6E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2444760" y="901800"/>
            <a:ext cx="6888240" cy="1487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images.barnesandnoble.com/images/14890000/14899727.JPG"/>
          <p:cNvPicPr/>
          <p:nvPr/>
        </p:nvPicPr>
        <p:blipFill>
          <a:blip r:embed="rId2"/>
          <a:stretch/>
        </p:blipFill>
        <p:spPr>
          <a:xfrm>
            <a:off x="0" y="0"/>
            <a:ext cx="4564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://dark.pozadia.org/images/wallpapers/Feeling_of_Isolation-90104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Lucida Sans Unicode"/>
              </a:rPr>
              <a:t>Lowell’s own representation of the feelings he has or had of him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Lucida Sans Unicode"/>
              </a:rPr>
              <a:t>Questioned the morals and attributes of a per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Lucida Sans Unicode"/>
              </a:rPr>
              <a:t>Mental illness that lead to 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539640" y="39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cLean Hospital in Belmont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place where Lowell wrote his poem to a lady called 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n Adden who was a girl he had met and fallen in love with during a brief st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iginal draft is 25 lines shorter than the actual poe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y at the psychiatric hospital indicate the confinement in the hospit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Picture 2" descr="http://tech.mit.edu/V124/N59/11hospitalgrantd.jpg"/>
          <p:cNvPicPr/>
          <p:nvPr/>
        </p:nvPicPr>
        <p:blipFill>
          <a:blip r:embed="rId1"/>
          <a:stretch/>
        </p:blipFill>
        <p:spPr>
          <a:xfrm>
            <a:off x="1835280" y="404640"/>
            <a:ext cx="540072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14400" y="4365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king in the Blue as a title could indica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wareness and recognition of his condition by him being in the psychiatric hospital and him finding himself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- A state of mind or a place symbolised by blue as he could be somewhere imaginary or in a place of nothingnes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195640" y="155520"/>
            <a:ext cx="55450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128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rst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ere’s nest- symbolising confusion and disorientation as it talks about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his drowsy head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use of vague adjectives such as “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maunder”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blue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bsence” - i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ea of not knowing how to feel, consumed and the losing of ones identity. Combined with title idea that you feel like you are drowning in the blu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Picture 2" descr="http://faithcenter.files.wordpress.com/2009/10/confusion_by_thiagolooney-png.jpg"/>
          <p:cNvPicPr/>
          <p:nvPr/>
        </p:nvPicPr>
        <p:blipFill>
          <a:blip r:embed="rId1"/>
          <a:stretch/>
        </p:blipFill>
        <p:spPr>
          <a:xfrm>
            <a:off x="2843280" y="333360"/>
            <a:ext cx="3384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75564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alking about sports and stereotypical nature of mal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arvard all-American fullback” ideal success story, academic and sporting recogni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amrod”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– talking about the fact that football players are stupid and only live for contac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tif of the confused words describing his moods –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vaguely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http://www.news.harvard.edu/gazette/2002/06.06/photos/0-year-in-progress4-450.jpg"/>
          <p:cNvPicPr/>
          <p:nvPr/>
        </p:nvPicPr>
        <p:blipFill>
          <a:blip r:embed="rId1"/>
          <a:stretch/>
        </p:blipFill>
        <p:spPr>
          <a:xfrm>
            <a:off x="2050920" y="189000"/>
            <a:ext cx="4969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61128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nly cares about appearance and reput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w he seen by others are his main though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e cut off from words “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ing that he cant find himself if he only thinks of his statu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ident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http://blog.seattlepi.com/undraftedfreeagent/library/sweater.jpg"/>
          <p:cNvPicPr/>
          <p:nvPr/>
        </p:nvPicPr>
        <p:blipFill>
          <a:blip r:embed="rId1"/>
          <a:stretch/>
        </p:blipFill>
        <p:spPr>
          <a:xfrm>
            <a:off x="2916360" y="476280"/>
            <a:ext cx="3168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1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alk of Louis the XVI as a rich and an arrogant k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nly cared about his imag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alking about how tries to fit in where his finest clothes – “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irthday suit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http://queensboro.files.wordpress.com/2009/10/louis_xvi2.jpg"/>
          <p:cNvPicPr/>
          <p:nvPr/>
        </p:nvPicPr>
        <p:blipFill>
          <a:blip r:embed="rId1"/>
          <a:stretch/>
        </p:blipFill>
        <p:spPr>
          <a:xfrm>
            <a:off x="2700360" y="189000"/>
            <a:ext cx="36003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9640" y="400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gain the motif of changing and styling your hair to get the fashionable loo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lating to title as it consumes you and you are then not your self as you are trying to make yourself look different than you are. – loss of identity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crewballs”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in the catholic church – reference to the churches image in today's society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2" descr="http://www.bnphysio.com/main/wp-content/uploads/2009/04/hairdresser.jpg"/>
          <p:cNvPicPr/>
          <p:nvPr/>
        </p:nvPicPr>
        <p:blipFill>
          <a:blip r:embed="rId1"/>
          <a:stretch/>
        </p:blipFill>
        <p:spPr>
          <a:xfrm>
            <a:off x="2268360" y="189000"/>
            <a:ext cx="46072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84360" y="3860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king up to realisation of what you have becom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looking in the mirror and seeing that you are greater than you actually are. – sense of arroga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ck of the walk” – arrogance and fleeting confidenc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ice my age and half my weight.” – arrogance and the irony as you are looking at someone bigger than you a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2" descr="http://www.worldwideshoppingmall.co.uk/toys/images/products/0749851929.gif"/>
          <p:cNvPicPr/>
          <p:nvPr/>
        </p:nvPicPr>
        <p:blipFill>
          <a:blip r:embed="rId1"/>
          <a:stretch/>
        </p:blipFill>
        <p:spPr>
          <a:xfrm>
            <a:off x="2484360" y="333360"/>
            <a:ext cx="4103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06:45:56Z</dcterms:created>
  <dc:creator>user</dc:creator>
  <dc:description/>
  <dc:language>en-US</dc:language>
  <cp:lastModifiedBy>user</cp:lastModifiedBy>
  <dcterms:modified xsi:type="dcterms:W3CDTF">2010-06-13T11:21:17Z</dcterms:modified>
  <cp:revision>10</cp:revision>
  <dc:subject/>
  <dc:title>Waking in the Blue</dc:title>
</cp:coreProperties>
</file>